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D8BA-8EBF-408E-B428-B1255AC90CF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55B-A347-468C-94E4-E0C9E02435A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EB5-64BA-4648-B363-9F5B6C01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0E9-C389-4052-834D-7C9DB34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675-8420-4D2F-9DDF-6BE79CD4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0D9-8368-41B3-9024-6F6140DB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2D7-FB02-4C38-BB30-2B46876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A21-9721-463E-A6DF-E2E6564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EBF-41E3-43E6-BF48-2564AC7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6C7-A5B2-4054-B402-0263574A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95A-9743-4695-BBE9-0D22A7E0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D93-CF51-441E-AB36-D0CB1EB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CDA-84A6-45D1-9BC8-C10B583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CCB-7FCE-4A46-98C2-47F1711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008B-AB15-495F-BA13-3189AB3E518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DDD-8A2F-4342-9EBD-46EC4377B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19C5-1A35-4087-9B83-C669B0074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B48B-5A01-4241-A465-494F016D8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395-4FDD-4CB7-A528-430D78B17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9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C5E-2A6F-42ED-982E-BDA1C60CA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6182-94A1-4F9F-91B4-887B97D15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A72-164E-4D99-9C0A-FC884DE9E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7A4-3125-417F-ACBC-79498BC20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A9C4-2D10-49B4-AB26-3ED068B91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41DD-7BD6-4882-9269-78594F915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ru-RU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1A77-4CF1-444E-B5DE-AF554896C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BF3-3492-4CF0-AE8F-9E9ED2D06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ru-RU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ru-RU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ru-RU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6FC-4622-479B-A363-B2E82595F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D65-A5B3-4817-AF69-72F955ED9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007-40B9-4CED-80E3-9CDC3292A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EB63-B276-4649-B10F-AAD144977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2601-1938-4ADF-A1DF-29259B0CA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9E8-122B-4E9D-A789-EAE9417A7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Дуга 12"/>
          <p:cNvSpPr/>
          <p:nvPr/>
        </p:nvSpPr>
        <p:spPr>
          <a:xfrm>
            <a:off x="7000920" y="5072040"/>
            <a:ext cx="46080" cy="46080"/>
          </a:xfrm>
          <a:prstGeom prst="pie">
            <a:avLst/>
          </a:prstGeom>
          <a:noFill/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125-955E-4FDC-A001-DAE02F4BB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2B5-E5F4-4856-A535-057C8C6C1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AC5-4B88-4673-B594-E94AFC0C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15BF-40CA-48AF-B54A-9199B6546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1E6-C1F6-45CB-B98F-EA1794DB3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0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1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881A-CFEB-4533-A02E-742C18D81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E16-4883-4D87-8090-E4543C784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1-03-03T07:30:57Z</dcterms:modified>
  <cp:revision>305</cp:revision>
  <dc:subject/>
  <dc:title>Слайд 1</dc:title>
</cp:coreProperties>
</file>